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9A8-5C5E-4739-9407-AEB41E68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7CE-6C25-40AE-A450-7B9E9AE2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A1475-2B62-4FA3-A5A6-C0580278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D23DC-6081-41B6-9702-CC113A9B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74583-7E5E-44AE-B46B-AC057E3C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874BF-4615-447F-8E22-B65E4390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4EF36-535B-4AA4-98B4-1F52A32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E0D66-3F38-484B-8BA0-F6E1339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3DC0B-FCF8-4753-8259-3FE11E51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9CE85-DFBD-4C58-AC1E-9B926435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DDD61-97BF-4867-A858-F6136ADC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05232-FB98-4458-9504-3986F9FE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648-C55F-4854-893B-B2936B68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686BF-3AB9-4BF7-A2DF-59B4ED1A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9B4A8-4236-480C-85AA-F47C6E8B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17A2A-BF22-487A-B619-9EBCF3E4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6FB41-52CF-4099-8180-97FF1EE1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5D13E-6C8F-49DE-B711-D92C0786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9E6DC-FF88-47FF-BE8D-786C5676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9C552-08A8-46FD-A1E9-C1DF6CB7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FC233-76BA-4ABE-999F-70A5847A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109F5-35E3-417E-90E4-A80D85F2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A78A6-2CF3-436E-B294-830AF8C1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B99-341E-4A5B-88C4-1678328F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36C0C-B31D-4B65-9421-60A762C3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20355-BCBC-4F13-9BDE-807593DF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DE80C-A1A6-479F-9C0E-DE0D8AE4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95687-4870-4758-9515-33241B92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7753B-852D-4A20-813C-0D2AE6AA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28414-8209-48CE-AA2B-9218C028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C4750-D91D-478E-BEF0-BBDD0871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185DE-C490-4377-8319-0993B02E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A3F77-AC5C-426F-981F-7BD6051C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8181B-FF6C-429D-9086-19A94569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05A7-7AB1-4161-879E-022072D3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DB297-83C9-43C4-BEC5-68550260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27594-F0E5-4CAD-8177-7287DE51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23582-7C4B-4898-984C-0C43DB17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F3992-0F89-4FE2-B479-A796D2A5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EE6D1-A3CB-40EF-A592-1353B676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09DAA-C110-48A5-9167-511691EE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4A266-6EC9-4961-A874-FE2A226F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8DDF5-5AB6-4CBB-BE18-69B93BD7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7E076-E960-4A5E-B6DB-82993DD5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DD780-00EC-41F1-AFCC-1EAFB78E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C893-7794-44E2-90FB-78F849A0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1EE5B-7068-4792-8D1F-5A7FF47E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76CE9-F530-4539-8A0F-888F0E42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E6128-2814-4BE6-BFEE-040255E4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25125-4FCA-40DE-981E-0D2BF448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8102B-8F15-46ED-8086-730DCA3C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0643C-52B2-45A4-B2CE-9A048134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BCAF4-0866-4F8D-9CBB-C4D4C649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B7B8B-38E5-47FC-9678-95A6D3E1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38DBE-79EE-4FC2-9B43-4EFE1498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E4717-1D22-468E-A7AE-B94FA94C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7012-74DE-4562-A73B-F1A30333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95C71-4A8F-4F82-85D8-F2471680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7D55F-85F9-4F38-B1BC-7C9520FC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4ECAA-BE2B-4F94-94B0-B89EB35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B2FFD-DAE0-4C2B-8432-ECAE2D06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B5385-9292-4781-B044-04DE92B7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C20A9-8603-4148-9C5A-90311D6A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FF149-571E-4824-9CCA-07908458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EE067-2CB8-474F-A1EE-52141CAF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467DD-32A9-4DF9-8AAB-C9870594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49189-E9F8-49F1-9646-94F28409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7446-ED0C-4C3B-8667-AB84A901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9207F-6B4F-40D7-9C85-B02D246E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FE784-E767-49DE-81EA-E42133C7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FFCFD-5E35-4A31-95BC-5E26C57F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1927E-19B6-4BD4-BD59-5A60AF7B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49E54-AEF8-4D4A-8E49-969F6A2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80128-E6E8-48D1-BC01-6B385096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EDD4A-F90B-443C-B50A-FA0B276D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9DB68-692C-401B-8669-5BE4C2DF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61C9C-1DF9-4C55-823B-C9AFA5C9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B5AD4-6466-410D-801A-4221574F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2466-AEFE-4585-9F85-B189F097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137AB-7E44-4C6B-AE85-694FDC2D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3359F-2C82-4907-A616-B201488A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14842-7A93-4707-A3DA-ABEE43FF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5D3C3-0E75-49D5-BB39-9831704E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E5B4A-F9CD-4D55-BC18-4DC95374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0FBA4-E614-484C-8F49-80CB7763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D5BE1-86CC-4E4C-AB0A-05360389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C86E8-2567-4996-B62C-BC14F330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0C41F-10F2-45C0-A882-87A73D60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00EB4-7070-497E-80D7-75952161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973D-71EC-4E3A-88B4-6AD920F7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30B58-1C99-4FCC-9F34-36092E6F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6D6C5-77AB-47D8-B8C4-0027B51E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26F61-80BE-49D0-865B-C23CF603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C396A-9263-4281-837D-5E1DCC2D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BBC2F-66E1-4F0F-BAA2-38B91EC8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91F47-38AE-4C3A-82B6-88D35384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8EEBB-3253-4789-8ADF-EDCB04A7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D7EE2-6311-40D6-96E3-0873EF9C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3AF50-DBAB-4967-BC35-5E9DC8F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8C08C-EE6B-470E-BDDA-1E87D907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77B7-5BEC-47EC-9E62-0F45FEA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D6789-AD6A-420F-AD9F-052CF023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87489-A0DC-4B8D-9B8F-3CDC677F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768D3-06AB-4AC3-8CC6-460A2A6F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3D440-4419-4A35-9C83-F4689FC5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4B330-854F-4AA8-BB8D-AC4DDB60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63907-5975-453D-B2DF-D689F610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2257F-3095-46D9-B98C-2BEB8B48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5FF86-5BAD-424B-BC74-F8DF949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4BEBA-2F42-4D17-9B38-7F2CFAD0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AFB2B2-53EC-4A67-9F66-A489343C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313-A394-4031-9FB3-ED913587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EE99-4452-4269-A42B-BEF2084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3AA3D-661F-43AF-8D24-F9C08A9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799F1D-8C87-4D59-B5EF-5D7F5A4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DD776-E401-4D24-A5A7-D7147D4D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4B02E-C5D6-4C79-AA18-B2B8EA15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5C8A2-4B4D-424C-8E95-EAF003BF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0EDAD6-EE1B-4FFD-B0FC-F69FE5A3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BAA33-794E-457A-906B-8FA5FF83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A9030-223E-4BBD-AC44-2FDFD024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30E58-9499-4E3B-B011-72EFB0AD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CAC4CA-9203-4E04-A08E-82144B28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C97B-E8FB-4099-B89E-79FB5177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372F6-C22C-4666-9DC4-6FEC65FD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75D32-B812-4A6B-BA37-975FE580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23F29F-3D5D-48B3-8D5E-2D568F00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3CE72-75D1-4865-93F9-C1CF18BC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161F2-43FB-4A16-9319-A7EB2211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D756C-1884-4A77-9BE3-F74396B6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58CB35-ADF5-4504-A60F-1467B1F7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6EC40-89DB-4D08-8550-E187D416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DC3744-7B51-4EB1-AD12-1FC96F1B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B69688-EF7E-4CDA-BFEE-CD8A874A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46F9-5A63-4A3F-BAF2-F8328279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E2CD37-5EB9-46E4-A0CA-5172B804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8FAAAF-C848-40AC-BAB6-CBCCF0D8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2A41E0-A5A3-4805-8B57-B6F349C8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855C5A-8D9A-46A7-92F1-5BCB9A83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CDBCD6-5975-43AA-9055-84CCD235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14376-E21F-4F76-9CAF-4E696DB2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A1EFC5-575A-4A90-AA39-843FFC46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9E623-7B49-498B-BCE0-6091F7F0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741CB-437C-451E-8C64-2D8C67B0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57339C-6E05-46D2-B8C9-1A74C587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4051-F7FD-466D-AB66-18E3F8E1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79F2CF-3BFF-460D-B654-EE00B4BD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C38523-9C40-4A65-A69A-51D04426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C1D921-DDB4-41B0-8004-BAAC4391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D76B76-0496-440B-907F-46BCC64F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455F8-F5AB-4BFA-A358-92935880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61B58-D533-434F-BB53-70CFFDE8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65FFA-D896-43F3-8A1B-01D0E70E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FE078-5BE2-4020-960D-BFF8443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625FF-7206-4A94-B277-AD8009AF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B60118-ADE5-4AEB-9AE3-436BDF28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9A69-77B5-4775-8566-F710CE36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F3F49-0354-4DD7-9A09-4BF0AB1C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B41095-786E-4BD9-B83E-FC286B3B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2283CB-7B19-41CA-96E4-F2C8873C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931266-17DC-4E7C-A11E-F806E9FC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7AC7BE-6E52-4606-AE51-6B53D1DA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965A61-7CCB-4EB5-9BC9-5E29BEEA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EDDDBD-A61B-4D67-9291-BE5DE147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84D799-236E-4FC5-B282-2B14B39B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56B171-C590-4E91-9B77-EF749BB6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BD0F28-6FC5-450B-A309-D1359157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A165-8F0E-43F0-ACAE-D9A4C648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486D70-FC2C-4436-BB1A-033FB710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04FD2E-E9CB-4829-9B29-0FB004A7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5920F-9428-42CE-8EB0-D52461E4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D1AA-B5E2-434C-BC21-22433B6B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5E21E-639E-4FCC-B196-5E7E8E5C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90E3-D46C-45FE-9F0E-0E317203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408D-57D0-4B5A-A7AC-ECA90F45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172-3199-4BC7-9AF0-533EDAB2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2629-2824-417A-B3A8-F5DE6FD8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FF135-EA2A-46C6-BFA1-B6DB19CA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7A38-976D-4A85-B8D2-2A5CC1E4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4720-D69B-41E8-8C70-B392D637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7319-6539-4760-ABF9-0277DCC0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E952-C56A-49C1-8608-7C65B2C3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14E9-912E-403D-AF60-F99BEBD0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AD02A-883B-4452-B321-04D93CC4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DF58A-4411-4D1B-8226-CE7DC2AE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2BB85-26A2-4398-A15E-63F8274B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75C-0E2D-4D1A-AC76-1A7393E7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1D74-4D0D-4818-9827-5C5B6ADA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D26A8-E084-499A-BE37-6F6D5D0E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B6C0D-5E84-4ACD-9565-19E725C8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DE87-8A82-4393-98FE-9771C7C7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F091-3644-47B2-A6B0-B263FED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E5CD-0CC5-41DA-8D4D-CC585E6B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D039D-6AB8-45C6-8E0F-89950321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6D2BD-B93B-4221-A2E8-1DC98F12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E4D2C-CEB4-45E7-A7D5-DB8D7DC2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E456-88BC-438B-A086-994E3B3F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8BF-C6FD-4420-8390-EC69D8FF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283B-8A62-4B3A-80F2-B4A9B446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95855-301B-4B35-A6AF-C806D5CB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76008-EEB0-48D4-8F96-69F90049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16D9A-9370-4251-93B5-8B5DA2B0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95692-1FE9-4CF5-BDC9-345704DD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F42C7-6CB3-4D96-B9E9-5E5ACA3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4001-1C22-4863-AEA7-EF2C5F79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3526-52F1-44D6-9C6F-0AB2447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E2BBF-BE1E-4E17-9E87-556F0917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213BF-CB2D-4911-B085-B58AA6FD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113-9843-4F0B-AA4E-A998A25F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278D5-1279-494E-BE87-6FEEC173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17DA1-0ED0-4028-A9B6-19EE95C4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9A901-312F-405D-BEFB-EA590DE5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92859-DE9D-4324-9B8D-07E3E9AA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31896-1586-40E8-8132-6264E67F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790C2-344E-42E9-8AF2-97741FB1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B9043-8D78-41B3-BD0C-BF42DA04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0AF18-F0B3-4A93-8DF8-C604901B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1B821-91FC-4B42-BF39-4E9BBB3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97DE0-3640-4027-9919-9984F4E9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D64-76A1-4A66-8DB6-CB13CE6F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4F001-A1C9-4BA7-B1C9-730A87CD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AAB11-EA04-4B37-80AC-18C7CEE7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FA500-BEED-4D7A-956B-CB21C6D8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8E038-D1D1-42AC-82B5-5928D613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12598-51B8-4EAF-BC4D-48DD8EC3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55723-267A-4773-8212-D6B136C7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E3F3D-5277-4D9E-840A-33636C18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607C5-2BB8-484A-9C4B-F64DE5EA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A3D44-CD65-4BB0-8406-5A6E5182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34210-7A6A-47A3-B604-2069B0C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976-FED6-4B80-881C-5E78141E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14EEA-5F73-4816-A1F0-3E2B481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466AE-66A6-4094-B97F-74BE198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A5364-EA02-40E3-9D75-CBD74746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2091A-FAA2-4F29-9CD9-BC09D4AB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B9E4E-9A53-483A-B407-B7C712AC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B71DE-0597-4B30-A994-0012E88F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822C8-D2CC-4113-937C-83B582CC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ACEDB-040A-48D5-9F94-56181130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16370-563F-456F-A487-AAEE9A0D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5F98D-3400-462D-B09B-C58BA5FB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AE5-599D-462B-818C-637E7528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52A60-3510-4907-B547-BAFFA137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291C0-92CF-48E4-8BAC-75A3148B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40883-AB00-4065-A190-8766264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3B03-DF53-4DC3-97C9-AE0255C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3263E-2633-4DD8-AC3D-FE18B529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E6358-C7B9-4867-8E42-21E83200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431F6-5929-46C7-85EA-87375A8F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AF85E-3807-4B3D-B945-AF54E959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F7E3E-827B-4470-8FA0-981C584F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E777E-EB54-43C1-A75A-27510F7F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BF4B-503A-4C53-B283-637906740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CF58-303B-42E6-BC07-9F54F3D8E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F233-2297-4E6B-868B-B98CBC29C2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C37A-713A-4D10-B4DA-C59C92A00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AF89-F483-46A6-994C-F2078AE9CE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3F88-0BB7-4DC5-ADB9-FC01506F70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5767-611A-477B-9B02-A4CBD47DE4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FF1C-043E-4BE9-8E87-033B235FAE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0B9E-4FD5-452C-BD32-F7877BDF43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E428-E2DB-4C9B-9CC3-F8863FF3D6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5BD3-AEC4-41F8-AB0D-BC2F176D56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991F-0BE6-40D3-92F5-28E478FD0C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D53D-BBEF-42E8-B125-EFBC45301C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E91C-CC00-4A05-9AB5-BCD4FFCABF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B3EC-9D0D-477D-A2D2-5FCBAD6848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3D86-B308-4E82-8E46-479C943AD5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6FDC-C4C4-4713-9841-02ECE0DB68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25B8-70BC-4BD3-A60E-AB3B2D2329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80F1-78B0-4BE7-8FCE-91DB2AAC01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49D7-5FED-4C10-B865-E53862C1FA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9F01-D6AA-4D13-8C4C-EBDB880761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0E81-4E7C-4938-B8F9-7CAB77537A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57DA-C81F-4349-ADA7-838C2FFC0D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0368-8F08-41C8-B9E0-F4ACC4A5DE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777E-7625-4B07-A847-6D953C51AF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28C8-3E2B-492D-875A-89D579913E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AE08-C754-442F-AF3C-DF7D0A8A9D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54F-70BC-4DAD-894A-F3ABA4084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8CDF-031F-4832-8864-50A30C40F5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F0C6-728B-408E-8541-CF4ADE8E10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2CFA-73A0-4B1D-BF4E-64513E58B6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947-2CA7-41F8-AE3B-0081E260D0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E6A9-9F34-4F6D-BB87-B06A1153AE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127A-9824-43CC-A02E-EE955DA050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9A26-9633-45A2-8DA4-9B3B729F5E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5FA7-9CC6-4E9A-ADF0-5C41E4CA6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C781-2A71-45FB-96EA-DC966B4C09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A8D1-8FB4-4291-A8D0-CC3BEE5B8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944B-E85A-4CF9-9AD1-2F4ED45C26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DEEE-5818-41EC-8DC9-B5DFBE88A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3760" y="3149640"/>
            <a:ext cx="90979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6313320" y="365040"/>
            <a:ext cx="38916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3"/>
          <a:stretch/>
        </p:blipFill>
        <p:spPr>
          <a:xfrm>
            <a:off x="109440" y="365040"/>
            <a:ext cx="8923320" cy="627696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100" descr=""/>
          <p:cNvPicPr/>
          <p:nvPr/>
        </p:nvPicPr>
        <p:blipFill>
          <a:blip r:embed="rId4"/>
          <a:stretch/>
        </p:blipFill>
        <p:spPr>
          <a:xfrm>
            <a:off x="900000" y="3789360"/>
            <a:ext cx="1871640" cy="55872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101" descr=""/>
          <p:cNvPicPr/>
          <p:nvPr/>
        </p:nvPicPr>
        <p:blipFill>
          <a:blip r:embed="rId5"/>
          <a:stretch/>
        </p:blipFill>
        <p:spPr>
          <a:xfrm>
            <a:off x="3851280" y="3789360"/>
            <a:ext cx="1871640" cy="55872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4102" descr=""/>
          <p:cNvPicPr/>
          <p:nvPr/>
        </p:nvPicPr>
        <p:blipFill>
          <a:blip r:embed="rId6"/>
          <a:stretch/>
        </p:blipFill>
        <p:spPr>
          <a:xfrm>
            <a:off x="6732720" y="3787920"/>
            <a:ext cx="1871640" cy="55872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4103" descr=""/>
          <p:cNvPicPr/>
          <p:nvPr/>
        </p:nvPicPr>
        <p:blipFill>
          <a:blip r:embed="rId7"/>
          <a:stretch/>
        </p:blipFill>
        <p:spPr>
          <a:xfrm>
            <a:off x="884160" y="6049800"/>
            <a:ext cx="1871640" cy="55908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104" descr=""/>
          <p:cNvPicPr/>
          <p:nvPr/>
        </p:nvPicPr>
        <p:blipFill>
          <a:blip r:embed="rId8"/>
          <a:stretch/>
        </p:blipFill>
        <p:spPr>
          <a:xfrm>
            <a:off x="3822840" y="6049800"/>
            <a:ext cx="1871640" cy="55908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4105" descr=""/>
          <p:cNvPicPr/>
          <p:nvPr/>
        </p:nvPicPr>
        <p:blipFill>
          <a:blip r:embed="rId9"/>
          <a:stretch/>
        </p:blipFill>
        <p:spPr>
          <a:xfrm>
            <a:off x="6257880" y="6049800"/>
            <a:ext cx="28432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219240" y="1690560"/>
            <a:ext cx="8705520" cy="34768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18728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1187280" y="4653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52280" y="1166760"/>
            <a:ext cx="8839440" cy="452448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6146" descr=""/>
          <p:cNvPicPr/>
          <p:nvPr/>
        </p:nvPicPr>
        <p:blipFill>
          <a:blip r:embed="rId2"/>
          <a:stretch/>
        </p:blipFill>
        <p:spPr>
          <a:xfrm>
            <a:off x="1216080" y="4048200"/>
            <a:ext cx="5832360" cy="60804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6147" descr=""/>
          <p:cNvPicPr/>
          <p:nvPr/>
        </p:nvPicPr>
        <p:blipFill>
          <a:blip r:embed="rId3"/>
          <a:stretch/>
        </p:blipFill>
        <p:spPr>
          <a:xfrm>
            <a:off x="1230480" y="4840200"/>
            <a:ext cx="5832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490680" y="2448000"/>
            <a:ext cx="8161200" cy="196200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7170" descr=""/>
          <p:cNvPicPr/>
          <p:nvPr/>
        </p:nvPicPr>
        <p:blipFill>
          <a:blip r:embed="rId2"/>
          <a:stretch/>
        </p:blipFill>
        <p:spPr>
          <a:xfrm>
            <a:off x="1042920" y="2651040"/>
            <a:ext cx="5834160" cy="57960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7171" descr=""/>
          <p:cNvPicPr/>
          <p:nvPr/>
        </p:nvPicPr>
        <p:blipFill>
          <a:blip r:embed="rId3"/>
          <a:stretch/>
        </p:blipFill>
        <p:spPr>
          <a:xfrm>
            <a:off x="1057320" y="3457440"/>
            <a:ext cx="583416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1:07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